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E5D1-0F42-40F0-ABA3-A4F8C9031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377-37EF-4564-8141-AAB73DE22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7E9-4C75-473A-8D19-611EAF45C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40B9-D130-4C7E-92A6-C0C52D6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A7A6-BC1B-4B9E-8FFB-19264E2F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04B5-9EE8-47F0-8CA8-9E716E92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25A6-C6BD-40BB-A14D-BAABEF81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295B-4F73-4C4C-9939-75BD4540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CCCC-E4B2-4E78-808A-EE9AAB67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187D-F451-40FD-B7BF-1EB1639B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9409-6974-48C6-83BB-895A800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D221-F46F-4A8C-8BB1-8290839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0662-2745-48EB-8617-EE3F96B5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8DCA-71D0-443D-8C44-79AFE5D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B265-0C7A-4C52-B40C-6A27F8E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FD5-133C-4993-90DF-1317C0B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FEE0-BC85-4B85-AEF7-9DADFC4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BDB1-063B-48EF-B85A-B24C0510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B004-E83C-4549-A319-E23D970F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CCD6-739D-4F67-B7FC-5866DFD8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9B72-EE89-4A9C-9104-F1A8BD71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2750-4C88-4432-9610-D3178B5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AD05-C121-4D24-9B0E-57F9FAA1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FAC7-F5F1-426D-9F25-0F8F29F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01D5-157B-4790-9C9A-4EF5581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6889-2EB6-4C01-85F7-D1E9CA2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7464-7127-4D3D-BAE4-62083B3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FF1-41D8-4D87-BAC1-1D824631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5E0E-412F-4C1A-8908-CF3476A7F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33D-4077-4103-B570-983B283C6B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2361960"/>
            <a:ext cx="57909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ngravers MT"/>
              </a:rPr>
              <a:t>Business Environ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4B38-619F-4866-932C-593592FEF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emorandum of Associ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emorandum of association of a company is the fundamental charter which lays down the basic principles in relation to a company. Like the rules under which. A company must function. A company cannot overstep the boundaries demarcated by the Memorandu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4AC-4ABA-487F-A8C8-9FACFF0CC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rospectu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ublic company for the purpose f raising capital may resort to several devices. These may b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) Issue of prospectus on behalf of a company, or (ii) an offer for sale or (iii) Plac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rivate company is under legal disability to invite public for subscribing to any share capital or debentures of the compan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A1C-FC3E-4959-B1A2-322231C876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inding Up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a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nding up of a company is a process by which the life of a company is put to an end. Like the death of a natural person the winding up is the death-knell of a company. The object of the winding up of a company is to realize the assets and accordance with the la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amond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5C2-322D-4409-94D9-45BA4207D5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medy for Oppression and Mismanage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Garamond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 of the Cou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 algn="just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Garamond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s of the Central Gover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 algn="just"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Garamond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isory 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amond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545-A703-42AC-BF79-A0BC98DC58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8960" y="2967120"/>
            <a:ext cx="701172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898640" cy="21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DCB-44AC-4703-8E04-4B14648CFE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. NEELAMEGA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.A., M.Phil., M.B.A., A.M.T., MIMA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ior Lectur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ool of Commerce and Business Administr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ulty of Science and Human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RM Univers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mil Nadu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RINDA PUBLICATIONS (P) L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HI - 110 09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w.vrindaindia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003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0E6-CCFF-4354-AB49-B31B8AEEF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105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 1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6840" y="274284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mpanies Act, 1956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6A24-1471-4AF9-9C87-1C3E3A539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1828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The companies Act was passed in 1956, and it came into force from April  1, 1956. This Act extends to the whole of India including Jammu &amp; Kashmir and it was based on the Legislation of Great Brit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ut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F37-3A2F-4D60-AF48-CEF8ADA2B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standard of business integrity and conduct in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ion and management of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wer of intervention and investigation into the affair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compan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closure of all the information relating to the affair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compan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forcement of proper performance of their duties b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ny manag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ective participation and control by the shareholder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the protection of their legitimate intere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Objective of the Ac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DB7-A817-47B3-B03C-B2EF6AEA09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 creation la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a voluntary association of pers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ncorporated for specific objects on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has a separate legal ent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’s members, generally have limited li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51920" y="27756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Featu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heel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8BC-2C0E-4EBB-BF1E-E0B6D10E1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6782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vate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limited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Compan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eign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isting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lding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idiary Compa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ypes of Compan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088-2A0C-4C69-8BCA-09754D9CA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7696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Privileges of Private Compan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Number of Me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encement of busi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spectus or a Statement in Lieu of Prospect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tment before Minimum subscri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ex Numb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utory meeting and Statutory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gerial Remu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E4D-81D7-44AF-9F66-844616B837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ormation of Compan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formation of a company the people who initially take active part of give it a concrete, shape are know as promoters in the commercial world. The term ‘Promoter’ is more familiar with the business than with la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nvolves the ideal of exertion for the purpose of getting up and starting company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6:58:02Z</dcterms:created>
  <dc:creator>ADTW DEPARTMENT</dc:creator>
  <dc:description/>
  <dc:language>en-US</dc:language>
  <cp:lastModifiedBy>abc</cp:lastModifiedBy>
  <dcterms:modified xsi:type="dcterms:W3CDTF">2010-07-23T07:33:09Z</dcterms:modified>
  <cp:revision>296</cp:revision>
  <dc:subject/>
  <dc:title>NEELA</dc:title>
</cp:coreProperties>
</file>